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U2Stor0201.wav" ContentType="audio/x-wav"/>
  <Override PartName="/ppt/media/rabbit.wav" ContentType="audio/x-wav"/>
  <Override PartName="/ppt/media/image1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U2Stor0202.wav" ContentType="audio/x-wav"/>
  <Override PartName="/ppt/media/image2.png" ContentType="image/png"/>
  <Override PartName="/ppt/media/U2Stor0203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FB2-BA7A-4D38-88C9-54E4AE9B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21B-E7F1-4587-A657-902831E2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C74-F583-4F05-ACB7-4E744032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D92-E7F6-4856-95E3-92D4BF0C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30F-C730-4CD1-A62F-6E8C80E3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EEB-9CCC-4F80-A31B-9BFA81B5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23F-C29F-4A2F-B635-1EB6E2B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0A1-6BDB-4A99-AF1D-B51E713C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4E9-8D72-4664-8C62-C049F023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51F-D528-47AC-B831-1E24C461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D15-5D99-4BE8-9B35-8A90491B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AC8-F511-4440-B6F1-8A970DA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6463-4EF1-4173-BE36-02C1CE960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U2Stor0203.wav"/><Relationship Id="rId3" Type="http://schemas.openxmlformats.org/officeDocument/2006/relationships/audio" Target="../media/U2Stor0203.wav"/><Relationship Id="rId4" Type="http://schemas.openxmlformats.org/officeDocument/2006/relationships/audio" Target="../media/U2Stor0203.wav"/><Relationship Id="rId5" Type="http://schemas.openxmlformats.org/officeDocument/2006/relationships/audio" Target="../media/U2Stor0203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U2Stor0202.wav"/><Relationship Id="rId3" Type="http://schemas.openxmlformats.org/officeDocument/2006/relationships/audio" Target="../media/U2Stor0202.wav"/><Relationship Id="rId4" Type="http://schemas.openxmlformats.org/officeDocument/2006/relationships/audio" Target="../media/U2Stor0202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rabbi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rabbit.wav"/><Relationship Id="rId3" Type="http://schemas.openxmlformats.org/officeDocument/2006/relationships/audio" Target="../media/rabbi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U2Stor0201.wav"/><Relationship Id="rId4" Type="http://schemas.openxmlformats.org/officeDocument/2006/relationships/audio" Target="../media/U2Stor0202.wav"/><Relationship Id="rId5" Type="http://schemas.openxmlformats.org/officeDocument/2006/relationships/audio" Target="../media/U2Stor0203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audio" Target="../media/U2Stor0201.wav"/><Relationship Id="rId4" Type="http://schemas.openxmlformats.org/officeDocument/2006/relationships/audio" Target="../media/U2Stor0202.wav"/><Relationship Id="rId5" Type="http://schemas.openxmlformats.org/officeDocument/2006/relationships/audio" Target="../media/U2Stor0203.wav"/><Relationship Id="rId6" Type="http://schemas.openxmlformats.org/officeDocument/2006/relationships/audio" Target="../media/U2Stor0203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audio" Target="../media/U2Stor0201.wav"/><Relationship Id="rId4" Type="http://schemas.openxmlformats.org/officeDocument/2006/relationships/audio" Target="../media/U2Stor0202.wav"/><Relationship Id="rId5" Type="http://schemas.openxmlformats.org/officeDocument/2006/relationships/audio" Target="../media/U2Stor0203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audio" Target="../media/U2Stor0201.wav"/><Relationship Id="rId4" Type="http://schemas.openxmlformats.org/officeDocument/2006/relationships/audio" Target="../media/U2Stor0203.wav"/><Relationship Id="rId5" Type="http://schemas.openxmlformats.org/officeDocument/2006/relationships/audio" Target="../media/U2Stor0203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audio" Target="../media/U2Stor0201.wav"/><Relationship Id="rId4" Type="http://schemas.openxmlformats.org/officeDocument/2006/relationships/audio" Target="../media/U2Stor0203.wav"/><Relationship Id="rId5" Type="http://schemas.openxmlformats.org/officeDocument/2006/relationships/audio" Target="../media/U2Stor0203.wav"/><Relationship Id="rId6" Type="http://schemas.openxmlformats.org/officeDocument/2006/relationships/audio" Target="../media/U2Stor0203.wav"/><Relationship Id="rId7" Type="http://schemas.openxmlformats.org/officeDocument/2006/relationships/audio" Target="../media/U2Stor0203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-413280" y="0"/>
            <a:ext cx="77245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t 3 It has a short ta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直接连接符 11"/>
          <p:cNvSpPr/>
          <p:nvPr/>
        </p:nvSpPr>
        <p:spPr>
          <a:xfrm>
            <a:off x="2057400" y="3048120"/>
            <a:ext cx="167652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4"/>
          <p:cNvSpPr/>
          <p:nvPr/>
        </p:nvSpPr>
        <p:spPr>
          <a:xfrm>
            <a:off x="3657600" y="29718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6"/>
          <p:cNvSpPr/>
          <p:nvPr/>
        </p:nvSpPr>
        <p:spPr>
          <a:xfrm>
            <a:off x="5486400" y="2895480"/>
            <a:ext cx="175248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8"/>
          <p:cNvSpPr/>
          <p:nvPr/>
        </p:nvSpPr>
        <p:spPr>
          <a:xfrm flipH="1">
            <a:off x="1981080" y="2971080"/>
            <a:ext cx="5181840" cy="6094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11640" y="5638680"/>
            <a:ext cx="1063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ok at the_____. It has a _____ ta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878920" y="5486400"/>
            <a:ext cx="150048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ti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688800" y="5486400"/>
            <a:ext cx="146556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-442440" y="5715000"/>
            <a:ext cx="1029384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ok at the_____. It has a ____ ta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013920" y="5562720"/>
            <a:ext cx="146700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b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486840" y="5562720"/>
            <a:ext cx="170316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-366120" y="5715000"/>
            <a:ext cx="1029384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ok at the_____. It has a ____ ta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853000" y="5791320"/>
            <a:ext cx="1909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612840" y="5562720"/>
            <a:ext cx="146556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289800" y="5867280"/>
            <a:ext cx="1029384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ok at the_____. It has a ____ ta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039120" y="5943600"/>
            <a:ext cx="15782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gira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688800" y="5715000"/>
            <a:ext cx="146556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797040" y="0"/>
            <a:ext cx="36860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Choose and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选一喜欢的动物，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5334120"/>
            <a:ext cx="914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the _______. It has a _____ tail. It’s ______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，大小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2Stor0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2Stor0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2Stor0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200400" y="228600"/>
            <a:ext cx="304812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33520" y="1219320"/>
            <a:ext cx="8001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找一些动物的图片，把尾巴或脖子剪下来，模仿范例进行连线和描述的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抄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个单词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bear,giraffe,monkey,tiger,long,shor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、听歌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The monkeys in the z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228600" y="22860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d, Mum and Liu Tao go to the zo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3733920" y="53341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涛和爸爸妈妈一起去了动物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0" y="15228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hoose a picture and act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34340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0" y="4038480"/>
            <a:ext cx="4343400" cy="232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4419720" y="4038480"/>
            <a:ext cx="4190760" cy="2370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2514600" y="11430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5"/>
          <a:stretch/>
        </p:blipFill>
        <p:spPr>
          <a:xfrm>
            <a:off x="457200" y="4038480"/>
            <a:ext cx="3886200" cy="244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6"/>
          <a:stretch/>
        </p:blipFill>
        <p:spPr>
          <a:xfrm>
            <a:off x="4724280" y="4038480"/>
            <a:ext cx="38102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457200" y="838080"/>
            <a:ext cx="8458200" cy="7034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仔细听老师的描述，猜一猜都是什么小动物？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801440" y="0"/>
            <a:ext cx="555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f0"/>
                </a:solidFill>
                <a:latin typeface="Arial"/>
              </a:rPr>
              <a:t>Guess and s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8600" y="2222640"/>
            <a:ext cx="89154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ab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905360" y="152280"/>
            <a:ext cx="423864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"/>
          <p:cNvSpPr/>
          <p:nvPr/>
        </p:nvSpPr>
        <p:spPr>
          <a:xfrm>
            <a:off x="380880" y="0"/>
            <a:ext cx="5943600" cy="2590920"/>
          </a:xfrm>
          <a:prstGeom prst="wedgeRoundRectCallout">
            <a:avLst>
              <a:gd name="adj1" fmla="val -37097"/>
              <a:gd name="adj2" fmla="val 117384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236240" y="60948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5400" spc="-1" strike="noStrike">
                <a:solidFill>
                  <a:srgbClr val="993300"/>
                </a:solidFill>
                <a:latin typeface="Arial"/>
              </a:rPr>
              <a:t>brow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26000" y="1447920"/>
            <a:ext cx="58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a short tail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307520" y="0"/>
            <a:ext cx="2581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5400" spc="-1" strike="noStrike">
                <a:solidFill>
                  <a:srgbClr val="00b050"/>
                </a:solidFill>
                <a:latin typeface="Arial"/>
              </a:rPr>
              <a:t>big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1514520" cy="2354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440520" y="4724280"/>
            <a:ext cx="178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en-US" sz="6000" spc="-1" strike="noStrike">
                <a:solidFill>
                  <a:srgbClr val="00b0f0"/>
                </a:solidFill>
                <a:latin typeface="Arial"/>
              </a:rPr>
              <a:t>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2Stor02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2Stor0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172120" y="3276720"/>
            <a:ext cx="3971880" cy="2952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380880" y="0"/>
            <a:ext cx="5943600" cy="3200400"/>
          </a:xfrm>
          <a:prstGeom prst="wedgeRoundRectCallout">
            <a:avLst>
              <a:gd name="adj1" fmla="val -37097"/>
              <a:gd name="adj2" fmla="val 117384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236240" y="60948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5400" spc="-1" strike="noStrike">
                <a:solidFill>
                  <a:srgbClr val="993300"/>
                </a:solidFill>
                <a:latin typeface="Arial"/>
              </a:rPr>
              <a:t>brow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082160" y="1447920"/>
            <a:ext cx="555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a long tail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253520" y="0"/>
            <a:ext cx="3304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5400" spc="-1" strike="noStrike">
                <a:solidFill>
                  <a:srgbClr val="00b050"/>
                </a:solidFill>
                <a:latin typeface="Arial"/>
              </a:rPr>
              <a:t>small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1514520" cy="23544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3481560" y="47242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en-US" sz="6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207080" y="2362320"/>
            <a:ext cx="51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 likes </a:t>
            </a:r>
            <a:r>
              <a:rPr b="1" lang="en-US" sz="5400" spc="-1" strike="noStrike">
                <a:solidFill>
                  <a:srgbClr val="ffc000"/>
                </a:solidFill>
                <a:latin typeface="Arial"/>
              </a:rPr>
              <a:t>fish(</a:t>
            </a:r>
            <a:r>
              <a:rPr b="1" lang="zh-CN" sz="5400" spc="-1" strike="noStrike">
                <a:solidFill>
                  <a:srgbClr val="ffc000"/>
                </a:solidFill>
                <a:latin typeface="Arial"/>
              </a:rPr>
              <a:t>鱼</a:t>
            </a:r>
            <a:r>
              <a:rPr b="1" lang="en-US" sz="5400" spc="-1" strike="noStrike">
                <a:solidFill>
                  <a:srgbClr val="ffc000"/>
                </a:solidFill>
                <a:latin typeface="Arial"/>
              </a:rPr>
              <a:t>)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2Stor02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2Stor0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3"/>
          <p:cNvSpPr/>
          <p:nvPr/>
        </p:nvSpPr>
        <p:spPr>
          <a:xfrm>
            <a:off x="380880" y="0"/>
            <a:ext cx="6629400" cy="2514600"/>
          </a:xfrm>
          <a:prstGeom prst="wedgeRoundRectCallout">
            <a:avLst>
              <a:gd name="adj1" fmla="val -37097"/>
              <a:gd name="adj2" fmla="val 117384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41560" y="609480"/>
            <a:ext cx="73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5400" spc="-1" strike="noStrike">
                <a:solidFill>
                  <a:srgbClr val="993300"/>
                </a:solidFill>
                <a:latin typeface="Arial"/>
              </a:rPr>
              <a:t>yellow and brow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45520" y="1447920"/>
            <a:ext cx="61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a long neck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40800" y="0"/>
            <a:ext cx="2543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5400" spc="-1" strike="noStrike">
                <a:solidFill>
                  <a:srgbClr val="00b050"/>
                </a:solidFill>
                <a:latin typeface="Arial"/>
              </a:rPr>
              <a:t>tall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514520" cy="235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6858000" y="1143000"/>
            <a:ext cx="2095560" cy="48290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360960" y="3581280"/>
            <a:ext cx="251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giraf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2Stor02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2Stor0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3"/>
          <p:cNvSpPr/>
          <p:nvPr/>
        </p:nvSpPr>
        <p:spPr>
          <a:xfrm>
            <a:off x="380880" y="0"/>
            <a:ext cx="5943600" cy="3200400"/>
          </a:xfrm>
          <a:prstGeom prst="wedgeRoundRectCallout">
            <a:avLst>
              <a:gd name="adj1" fmla="val -37097"/>
              <a:gd name="adj2" fmla="val 117384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24960" y="380880"/>
            <a:ext cx="555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a long tail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514520" cy="2354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2621520" y="4419720"/>
            <a:ext cx="30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monk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62040" y="1447920"/>
            <a:ext cx="547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 likes banana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3505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2Stor02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3"/>
          <p:cNvSpPr/>
          <p:nvPr/>
        </p:nvSpPr>
        <p:spPr>
          <a:xfrm>
            <a:off x="380880" y="0"/>
            <a:ext cx="8382240" cy="3733920"/>
          </a:xfrm>
          <a:prstGeom prst="wedgeRoundRectCallout">
            <a:avLst>
              <a:gd name="adj1" fmla="val -37097"/>
              <a:gd name="adj2" fmla="val 117384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48640" y="0"/>
            <a:ext cx="555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a long tail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514520" cy="2354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3539880" y="4952880"/>
            <a:ext cx="183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tig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71320" y="914400"/>
            <a:ext cx="85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5400" spc="-1" strike="noStrike">
                <a:solidFill>
                  <a:srgbClr val="993300"/>
                </a:solidFill>
                <a:latin typeface="Arial"/>
              </a:rPr>
              <a:t>brow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and black(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黑色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486400" y="3276720"/>
            <a:ext cx="35053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628560" y="1828800"/>
            <a:ext cx="56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 likes meat(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肉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744840" y="2819520"/>
            <a:ext cx="68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very strong(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强壮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2Stor02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U2Stor0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1T00:30:29Z</dcterms:created>
  <dc:creator>Administrator</dc:creator>
  <dc:description/>
  <dc:language>en-US</dc:language>
  <cp:lastModifiedBy>administrator</cp:lastModifiedBy>
  <dcterms:modified xsi:type="dcterms:W3CDTF">2016-09-14T01:25:27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