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rabbit.wav" ContentType="audio/x-wav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559-4169-4A34-8E08-3A636734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BC0-AF7F-4E03-A17B-C04E16DC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743-8CAB-4C4F-A15E-C948FA21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71D-315A-4D7A-863D-F7856110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3ED-F5CC-4FB5-85D5-E324491A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E68-D1C8-4B02-9DCA-B4F33D59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761-60A9-4327-B1F5-2191DCDA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8B4-AC2F-4609-B422-05DA783A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644-68EA-4001-84D8-087C4203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0FC-EF0C-4662-A243-AEF18FDF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DE0-7601-4969-9119-3D861A98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5C2-9E4B-4C55-A354-CE8413B3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93D1-2F2F-4C69-AC8C-86A5E80C3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rabbi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rabbit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rabbit.wav"/><Relationship Id="rId4" Type="http://schemas.openxmlformats.org/officeDocument/2006/relationships/audio" Target="../media/rabbit.wav"/><Relationship Id="rId5" Type="http://schemas.openxmlformats.org/officeDocument/2006/relationships/audio" Target="../media/rabbit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rabbit.wav"/><Relationship Id="rId4" Type="http://schemas.openxmlformats.org/officeDocument/2006/relationships/audio" Target="../media/rabbit.wav"/><Relationship Id="rId5" Type="http://schemas.openxmlformats.org/officeDocument/2006/relationships/audio" Target="../media/rabbit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U3Song.swf" TargetMode="External"/><Relationship Id="rId3" Type="http://schemas.openxmlformats.org/officeDocument/2006/relationships/audio" Target="../media/rabbit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-413280" y="0"/>
            <a:ext cx="77245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it 3 It has a short ta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3429000" cy="89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1676520" y="4419720"/>
            <a:ext cx="70675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228600" y="22860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d, Mum and Liu Tao go to the zo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3733920" y="53341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涛和爸爸妈妈一起去了动物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ab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3739680" y="4114800"/>
            <a:ext cx="152172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在动物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76720" y="3276720"/>
            <a:ext cx="2514600" cy="1434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 the z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ab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-28440"/>
            <a:ext cx="5267160" cy="6886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562720" y="2133720"/>
            <a:ext cx="3352680" cy="2104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monkey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 the z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6943680" y="3772080"/>
            <a:ext cx="2200320" cy="3085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5486400" y="228600"/>
            <a:ext cx="335268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igh-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562720" y="1143000"/>
            <a:ext cx="335268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derry-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ab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ab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ab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5562720" y="2133720"/>
            <a:ext cx="3352680" cy="1434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tiger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 the z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943680" y="3772080"/>
            <a:ext cx="220032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5486400" y="228600"/>
            <a:ext cx="335268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igh-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2720" y="1143000"/>
            <a:ext cx="335268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derry-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ab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ab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ab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296120" cy="41817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2362320" y="685800"/>
            <a:ext cx="2819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ab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819520" y="762120"/>
            <a:ext cx="3047760" cy="70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2057400"/>
            <a:ext cx="8001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唱歌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The monkeys in the zoo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给自己的家人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用别的单词来改编歌曲如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ears,rabbit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1T00:30:29Z</dcterms:created>
  <dc:creator>Administrator</dc:creator>
  <dc:description/>
  <dc:language>en-US</dc:language>
  <cp:lastModifiedBy>administrator</cp:lastModifiedBy>
  <dcterms:modified xsi:type="dcterms:W3CDTF">2016-09-14T00:58:33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