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399-286A-460F-A509-2BEF0B0A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423-9D7D-4C5D-8879-1E6D3917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186-FB4F-4094-B2A0-00601240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966-CC79-4462-BCA9-BC33EE44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0D7-684B-4072-86CC-9BD88239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D38-7924-4577-98DF-012F07DD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EEE-1D89-49A6-80A2-0C3BEE58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2A3-DBA4-4ED5-9578-0BFA1B19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2A3-0E25-4D08-A2AC-210D5AA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14B-0999-4EAD-8CA8-89C35F74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787-8A37-4DED-822A-62C8F4E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9A3-2F68-473E-B179-00EA9665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F543-7CFC-4A9A-848F-DBB318E958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2&amp;in=9&amp;cl=2&amp;cm=1&amp;sc=0&amp;lm=-1&amp;pn=8&amp;rn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3640" y="33336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479736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8360" y="6381720"/>
            <a:ext cx="576360" cy="476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我爱我家”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实践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86400"/>
            <a:ext cx="47242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教师：唐金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施班级：初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实施后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总结反思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品课的生命是实践性；我们在教学中不仅要动之以情晓之以理；更加重要的是把教学要求落实在具体的行动中去；发挥思品课的德育功能。而这都需要我们在教学中更多关注学生的行为培养，进一步把感恩教育落实到实处，培养更多品学兼优的好学生、好孩子、好公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作业设计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教学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孝敬父母是中华民族的传统美德。孝敬父母长辈体现在日常生活的方方面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活动感受父母对自己的爱心和抚育，尊重父母的劳动和情感，体验尽孝后的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作业设计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具体内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第一单元“孝敬父母”的内容，把自己想对父母说的话写在一张信纸上（要求有一定字数，并且有真情实感），并用信封装好，写上自己家庭的具体地址和邮政编码以及收件人（父亲或者母亲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第一单元“孝敬父母”的教学内容，设计一份主题为“我爱我家”的手抄报或者电子报，通过重温亲情主题小报设计，抓住家庭生活中的精彩片断，重温亲情一刻，感受到家中有亲人，家里有亲情的温馨。（注：必须有家庭的一张合影照片），选择优秀小报在年级组橱窗公开展示和宣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作业设计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设计意图和创新之处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合教学内容，结合学生实际，开展以重温亲情为主题的“我爱我家”手抄报纸评选活动；针对感谢父母的培养和教育开展的“给父母的一份信”活动。这些活动充分体现了初中思想品德课的思想性、社会性等特点，让学生学会实践、学会感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实施过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对作业的设计非常感兴趣，都利用周末积极认真完成；他们还和自己的父母一起共同设计、参与小报的设计过程；给父母的一份新，让他们重温父母的点点滴滴关爱，甚至泪洒信纸；作业的完成刚才也是学生心灵碰撞的过程，可谓是一份爱的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实施过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64832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60958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实施过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191120" cy="2849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57800" y="4124160"/>
            <a:ext cx="37051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实施过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实施后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效果评估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践作业取得了比较好的效果，家长纷纷反馈说孩子变得更加懂事了，在家庭知道了帮助父母做一些力所能及的事情，和父母之间的感情也更加融洽和睦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32004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12-20T15:13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