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A2C-7371-4849-AFCD-D3DFE8A6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F37-0B8A-4801-B545-BFE63BA4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F1F7-A9D3-4DBD-B752-818B89D6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7C7-719F-40AD-BF9D-57F7073B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059D-56C5-4443-BDD4-D5DDF523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1924-71DF-4073-AB3F-FAC38164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C5D2-D385-405D-B9A1-1FCAF8E0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150D-87CB-46B4-AB3B-01FD405A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075A-4201-4FF2-A67D-8CD3D077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627280" y="274320"/>
            <a:ext cx="605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4852-9DCA-4007-BA0C-A0E5FCDF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B4A8-D9CF-499D-B6E0-CB763766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81D-7A06-4AD6-BA3A-92C91C70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C6E7-92D1-40EE-9422-25C0A289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7799-2CB8-43CF-8345-4A5BFFE4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32B2-0343-4527-8A19-73A9C7F8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8C03-C998-4EC5-A6EA-F9A782D4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46E4-1306-4795-886C-0AD327AA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26F-83FE-4BDF-A33E-D48E862B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627280" y="274320"/>
            <a:ext cx="605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871-F9CA-442E-BF30-6CCF53A6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627280" y="274320"/>
            <a:ext cx="605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11B-08BF-4730-95E3-EC195E4F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27280" y="274320"/>
            <a:ext cx="605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32B-23AE-42D3-876B-AFE71C16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B7CA-DB4B-45E5-B6B8-491BA8E6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1D37-9F88-4F0F-B84D-2FFC8601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960-DDDC-42FF-96A2-A0BD9F80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tretch/>
        </p:blipFill>
        <p:spPr>
          <a:xfrm>
            <a:off x="1778040" y="2205000"/>
            <a:ext cx="7365960" cy="4311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2E25-D688-4140-87E8-C0A7741DD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图片 8" descr=""/>
          <p:cNvPicPr/>
          <p:nvPr/>
        </p:nvPicPr>
        <p:blipFill>
          <a:blip r:embed="rId3"/>
          <a:srcRect l="0" t="0" r="0" b="24709"/>
          <a:stretch/>
        </p:blipFill>
        <p:spPr>
          <a:xfrm>
            <a:off x="0" y="6559560"/>
            <a:ext cx="9144000" cy="298440"/>
          </a:xfrm>
          <a:prstGeom prst="rect">
            <a:avLst/>
          </a:prstGeom>
          <a:ln w="0">
            <a:noFill/>
          </a:ln>
        </p:spPr>
      </p:pic>
      <p:pic>
        <p:nvPicPr>
          <p:cNvPr id="7" name="内容占位符 5" descr=""/>
          <p:cNvPicPr/>
          <p:nvPr/>
        </p:nvPicPr>
        <p:blipFill>
          <a:blip r:embed="rId4"/>
          <a:srcRect l="0" t="51851" r="0" b="0"/>
          <a:stretch/>
        </p:blipFill>
        <p:spPr>
          <a:xfrm>
            <a:off x="179280" y="260280"/>
            <a:ext cx="2041560" cy="80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2"/>
          <a:stretch/>
        </p:blipFill>
        <p:spPr>
          <a:xfrm>
            <a:off x="0" y="766800"/>
            <a:ext cx="4309920" cy="6091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e005a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de005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BC47-6F22-46A1-B4EE-647BB5748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图片 5" descr=""/>
          <p:cNvPicPr/>
          <p:nvPr/>
        </p:nvPicPr>
        <p:blipFill>
          <a:blip r:embed="rId3"/>
          <a:srcRect l="0" t="0" r="0" b="7216"/>
          <a:stretch/>
        </p:blipFill>
        <p:spPr>
          <a:xfrm>
            <a:off x="0" y="0"/>
            <a:ext cx="914400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内容占位符 5" descr=""/>
          <p:cNvPicPr/>
          <p:nvPr/>
        </p:nvPicPr>
        <p:blipFill>
          <a:blip r:embed="rId4"/>
          <a:stretch/>
        </p:blipFill>
        <p:spPr>
          <a:xfrm>
            <a:off x="2771640" y="0"/>
            <a:ext cx="3565800" cy="76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2" descr="OOOPIC_vipvip4_2008090402070895c4408333f526ce20"/>
          <p:cNvPicPr/>
          <p:nvPr/>
        </p:nvPicPr>
        <p:blipFill>
          <a:blip r:embed="rId2"/>
          <a:srcRect l="480" t="16062" r="0" b="52399"/>
          <a:stretch/>
        </p:blipFill>
        <p:spPr>
          <a:xfrm>
            <a:off x="0" y="3952800"/>
            <a:ext cx="9144000" cy="29052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4"/>
          <p:cNvGrpSpPr/>
          <p:nvPr/>
        </p:nvGrpSpPr>
        <p:grpSpPr>
          <a:xfrm>
            <a:off x="0" y="0"/>
            <a:ext cx="9144000" cy="907200"/>
            <a:chOff x="0" y="0"/>
            <a:chExt cx="9144000" cy="907200"/>
          </a:xfrm>
        </p:grpSpPr>
        <p:pic>
          <p:nvPicPr>
            <p:cNvPr id="89" name="Picture 25" descr="1P13S24Q1"/>
            <p:cNvPicPr/>
            <p:nvPr/>
          </p:nvPicPr>
          <p:blipFill>
            <a:blip r:embed="rId3"/>
            <a:srcRect l="0" t="0" r="0" b="84557"/>
            <a:stretch/>
          </p:blipFill>
          <p:spPr>
            <a:xfrm>
              <a:off x="0" y="0"/>
              <a:ext cx="91440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26"/>
            <p:cNvSpPr/>
            <p:nvPr/>
          </p:nvSpPr>
          <p:spPr>
            <a:xfrm>
              <a:off x="2843280" y="591480"/>
              <a:ext cx="288720" cy="31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OOOPIC_vipvip4_2008090402070895c4408333f526ce20"/>
          <p:cNvPicPr/>
          <p:nvPr/>
        </p:nvPicPr>
        <p:blipFill>
          <a:blip r:embed="rId2"/>
          <a:srcRect l="480" t="16062" r="0" b="52399"/>
          <a:stretch/>
        </p:blipFill>
        <p:spPr>
          <a:xfrm>
            <a:off x="0" y="3952800"/>
            <a:ext cx="9144000" cy="290520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24"/>
          <p:cNvGrpSpPr/>
          <p:nvPr/>
        </p:nvGrpSpPr>
        <p:grpSpPr>
          <a:xfrm>
            <a:off x="0" y="0"/>
            <a:ext cx="9144000" cy="907200"/>
            <a:chOff x="0" y="0"/>
            <a:chExt cx="9144000" cy="907200"/>
          </a:xfrm>
        </p:grpSpPr>
        <p:pic>
          <p:nvPicPr>
            <p:cNvPr id="131" name="Picture 25" descr="1P13S24Q1"/>
            <p:cNvPicPr/>
            <p:nvPr/>
          </p:nvPicPr>
          <p:blipFill>
            <a:blip r:embed="rId3"/>
            <a:srcRect l="0" t="0" r="0" b="84557"/>
            <a:stretch/>
          </p:blipFill>
          <p:spPr>
            <a:xfrm>
              <a:off x="0" y="0"/>
              <a:ext cx="9144000" cy="8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26"/>
            <p:cNvSpPr/>
            <p:nvPr/>
          </p:nvSpPr>
          <p:spPr>
            <a:xfrm>
              <a:off x="2843280" y="591480"/>
              <a:ext cx="288720" cy="31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11111"/>
                </a:solidFill>
                <a:latin typeface="Arial"/>
              </a:rPr>
              <a:t>Click to edit the title text format</a:t>
            </a:r>
            <a:endParaRPr b="1" lang="en-US" sz="6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1557000"/>
            <a:ext cx="820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11111"/>
                </a:solidFill>
                <a:latin typeface="Arial"/>
                <a:ea typeface="迷你简雪君"/>
              </a:rPr>
              <a:t>风采杯比赛思品学科平时实践作业设计 </a:t>
            </a:r>
            <a:endParaRPr b="1" lang="en-US" sz="6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47636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南京市建邺区莲花实验学校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王鑫红老师九年级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四、后续作业布置</a:t>
            </a: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选定优秀作业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各小组根据展示的资料，将书本的重点知识勾画。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在勾画过程中，提出质疑。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433960" y="4077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作业实施班级：九年级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197000"/>
            <a:ext cx="9144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e005a"/>
                </a:solidFill>
                <a:latin typeface="Arial"/>
                <a:ea typeface="楷体_GB2312"/>
              </a:rPr>
              <a:t>作业名称：九年级第二单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e005a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de005a"/>
                </a:solidFill>
                <a:latin typeface="Arial"/>
                <a:ea typeface="楷体_GB2312"/>
              </a:rPr>
              <a:t>收集资料 初步认识国情 国策 战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28544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设计教师姓名：王鑫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64080" y="35020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学校：南京市建邺区莲花实验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07720" y="6915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第一部分：作业设计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170028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相应教学内容：九年级第二单元 第三、四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12760" y="2276640"/>
            <a:ext cx="354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具体内容：通过收集资料、访谈等形式，对我国国情有初步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性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2360" y="314172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设计意图：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预习新课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理解新课，有利于教师关注学生最近发展区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增强学生实践和合作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2360" y="443880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创新之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通过这样的设计，学生能够对国情有了感性的认识，教师也可以在此基础上对所教知识有所拔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收集、制作、讲解统一要求于这样的设计中，有利于提高学生的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946680" y="2995200"/>
            <a:ext cx="642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准备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组合作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修改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台讲解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评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84640" y="620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第二部分：作业实施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2720" y="1809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采访、收集资料等方式，了解我国国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92360" y="9079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准备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6840" y="2065320"/>
            <a:ext cx="68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学生分头采访、收集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组合作筛选资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组合作制作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155400" y="1268640"/>
            <a:ext cx="291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选定主讲人， 呈现小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76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呈现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PPT(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节选）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4920" y="1773360"/>
            <a:ext cx="9074160" cy="4763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494080" y="404640"/>
            <a:ext cx="539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三、作业展示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31680" y="-93600"/>
            <a:ext cx="4029120" cy="2481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95640" y="-9540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0" y="2278080"/>
            <a:ext cx="5435640" cy="431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584680" y="4071960"/>
            <a:ext cx="35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口 资源 环境现状的相关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2728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6360" y="46080"/>
            <a:ext cx="9217080" cy="5616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68360" y="5734080"/>
            <a:ext cx="783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生还用视频的方式来演绎我国人口国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14:49:02Z</dcterms:created>
  <dc:creator>zw</dc:creator>
  <dc:description/>
  <dc:language>en-US</dc:language>
  <cp:lastModifiedBy>USER</cp:lastModifiedBy>
  <dcterms:modified xsi:type="dcterms:W3CDTF">2015-01-14T02:48:3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